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E3F-5119-48E8-83FC-643995CB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595-9C13-49A1-B504-675BDD33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19A-4D08-4B62-8129-BE06645E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A32-8600-4E85-AF04-62DCE9C2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E13-3398-4424-84A7-FA7A2E80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F64-1BE4-454F-93FB-C680D18F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405-2C8D-4B9B-8D49-0FFE1108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E19-1EEC-4636-B490-39E23974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FB6-7C33-4D96-A780-CDA33773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0C4-4F53-4AD8-BDD6-929EE013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033-4EE2-4AE4-B768-2E92CD3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244-B41C-4410-B7E9-A8D912D3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0AFE-233F-4D6A-AE5A-2BA177C02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iki/Curent_electri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ea lui O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de curent continu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76480" y="2914560"/>
            <a:ext cx="2600280" cy="189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e de circu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or 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erme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me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z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conductoare de legătu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Legea lui Ohm </a:t>
            </a:r>
            <a:br>
              <a:rPr sz="4000"/>
            </a:br>
            <a:r>
              <a:rPr b="0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pentru o porțiune de circ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147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ntensitat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I) </a:t>
            </a:r>
            <a:r>
              <a:rPr b="0" lang="ro-RO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urentului electri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r-o portiune de circuit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direct proporţională cu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tensiun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U) aplicată la capete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ste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6:39:43Z</dcterms:created>
  <dc:creator>AS</dc:creator>
  <dc:description/>
  <dc:language>en-US</dc:language>
  <cp:lastModifiedBy>AS</cp:lastModifiedBy>
  <dcterms:modified xsi:type="dcterms:W3CDTF">2010-01-08T17:50:28Z</dcterms:modified>
  <cp:revision>5</cp:revision>
  <dc:subject/>
  <dc:title>Ecuația de gradul II</dc:title>
</cp:coreProperties>
</file>